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9072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452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9280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9488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9072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9280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9488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D8ED-5932-4BFA-89A1-E05EA04C09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9998-E089-48E5-AD71-8E9BC674BC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4839-0C5A-4A98-A5CF-AEFD3562B4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0ACA-798D-4CC9-9F1A-6DA04C788F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BFF95-2F06-418A-AB40-BC2C6623FC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590920" y="228600"/>
            <a:ext cx="6400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07B9-21A7-4DB0-B040-1961EC84BB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3CA1-55BD-4B51-8A3D-5C7ECBE166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3452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89E1-A1D3-4B59-886B-6447ECB94E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65A4-8AFE-4BCD-8620-3677AD0028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72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5F54-BE7F-44DB-B47E-6F0D68300B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72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3452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3FBB-9B37-4A71-AD80-8198BF3DF6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9280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9488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72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9280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9488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13B1-F7C0-48F2-AE33-066CA820C5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590920" y="228600"/>
            <a:ext cx="6400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3452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452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962520" y="2874960"/>
            <a:ext cx="5181480" cy="398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1981080" cy="1168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6440" y="1285920"/>
            <a:ext cx="624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28880" y="1828800"/>
            <a:ext cx="600048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391520" y="45720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6934320" y="6170760"/>
            <a:ext cx="205740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1683-FC83-46F9-A681-17BFA80A44A3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2000" y="117360"/>
            <a:ext cx="2352600" cy="110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6440" y="1285920"/>
            <a:ext cx="624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28880" y="1828800"/>
            <a:ext cx="600048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1066680"/>
            <a:ext cx="6248160" cy="0"/>
          </a:xfrm>
          <a:prstGeom prst="line">
            <a:avLst/>
          </a:prstGeom>
          <a:ln w="38160">
            <a:solidFill>
              <a:srgbClr val="e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457200"/>
            <a:ext cx="1143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4572000" y="1413000"/>
            <a:ext cx="4572000" cy="5229720"/>
            <a:chOff x="4572000" y="1413000"/>
            <a:chExt cx="4572000" cy="5229720"/>
          </a:xfrm>
        </p:grpSpPr>
        <p:sp>
          <p:nvSpPr>
            <p:cNvPr id="92" name=""/>
            <p:cNvSpPr/>
            <p:nvPr/>
          </p:nvSpPr>
          <p:spPr>
            <a:xfrm>
              <a:off x="5029200" y="4156200"/>
              <a:ext cx="3809880" cy="0"/>
            </a:xfrm>
            <a:prstGeom prst="line">
              <a:avLst/>
            </a:prstGeom>
            <a:ln w="38160">
              <a:solidFill>
                <a:srgbClr val="f01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76920" y="1625760"/>
              <a:ext cx="3581280" cy="12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第四届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HINAJO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展会视频直播计划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05520" y="5070600"/>
              <a:ext cx="35812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新浪游戏频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欢腾视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57800" y="4003560"/>
              <a:ext cx="3352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57800" y="1413000"/>
              <a:ext cx="3352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0" y="5603760"/>
              <a:ext cx="457200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66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2"/>
          <a:srcRect l="0" t="0" r="0" b="202"/>
          <a:stretch/>
        </p:blipFill>
        <p:spPr>
          <a:xfrm>
            <a:off x="0" y="0"/>
            <a:ext cx="48164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876920" y="34290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  <a:ea typeface="MingLiU"/>
              </a:rPr>
              <a:t>You are the on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202"/>
          <a:stretch/>
        </p:blipFill>
        <p:spPr>
          <a:xfrm>
            <a:off x="0" y="0"/>
            <a:ext cx="481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1916280"/>
            <a:ext cx="769608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916280"/>
            <a:ext cx="7704000" cy="25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浪游戏将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HINAJO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展会期间进行全程视频直播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2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第四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HINAJO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展会期间，本届展会首要网络媒体“新浪游戏” 将与视频战略合作伙伴“欢腾传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建立展会直播频道，以最直观的视频方式进行长期、全方位的播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配合贵公司充分利用好本次展会，通过视频传播手段，宣传游戏产品，吸引玩家参与，扩大公司和产品知名度，新浪游戏为您提供以下展会相关视频宣传方案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50920" y="981000"/>
            <a:ext cx="7696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浪游戏第四届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inajoy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戏展览会专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310600" cy="2067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310600" cy="2067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11022E-016 L 0.00781 -2.21551 E">
                                      <p:cBhvr>
                                        <p:cTn id="11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浪游戏将为合作伙伴提供</a:t>
            </a:r>
            <a:r>
              <a:rPr b="1" lang="zh-CN" sz="3600" spc="-1" strike="noStrike">
                <a:solidFill>
                  <a:srgbClr val="f02e00"/>
                </a:solidFill>
                <a:latin typeface="Times New Roman"/>
              </a:rPr>
              <a:t>免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f02e00"/>
                </a:solidFill>
                <a:latin typeface="Times New Roman"/>
              </a:rPr>
              <a:t>视频直播服务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预期参与的合作伙伴数量较多，为确保质量，每个活动伙伴大约可以得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小时的视频直播时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1270080" cy="1905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124000" y="1413000"/>
            <a:ext cx="684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cc"/>
                </a:solidFill>
                <a:latin typeface="Times New Roman"/>
                <a:ea typeface="黑体"/>
              </a:rPr>
              <a:t>新浪游戏在展会现场投入强大的视频直播资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278136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拍摄人员（包括摄像和主持解说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1419480" cy="1700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40000" y="4581360"/>
            <a:ext cx="633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现场报道人员（包括带控制台的电脑和宽带网络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124000" y="1197000"/>
            <a:ext cx="58327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cc"/>
                </a:solidFill>
                <a:latin typeface="Times New Roman"/>
                <a:ea typeface="黑体"/>
              </a:rPr>
              <a:t>新浪游戏对展会报道投入足够宣传资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  <a:ea typeface="黑体"/>
              </a:rPr>
              <a:t>（资源获得办法请见视频录播及商务合作方案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4360" y="2133720"/>
          <a:ext cx="2908080" cy="41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2908080" cy="41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635280" y="220500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页大图小图推荐（每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292428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页要闻文字链推荐（每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行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45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页视频图文推荐（适量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5084640"/>
            <a:ext cx="45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首页通栏广告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hinaJo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专题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761364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您希望参加新浪提供的免费视频直播宣传活动，只需要做一件工作，请将您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inajo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展会期间活动时间表发送给我们，我们将为您安排直播宣传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9640" y="4005360"/>
          <a:ext cx="8064720" cy="1552320"/>
        </p:xfrm>
        <a:graphic>
          <a:graphicData uri="http://schemas.openxmlformats.org/drawingml/2006/table">
            <a:tbl>
              <a:tblPr/>
              <a:tblGrid>
                <a:gridCol w="1152720"/>
                <a:gridCol w="1439640"/>
                <a:gridCol w="1295640"/>
                <a:gridCol w="417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7.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代言人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xx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现场见面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7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4: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玩家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cosplay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表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联系方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闻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新浪游戏频道 副主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nyu2@staff.sina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:82628888-53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C:1018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SN:bung_u@hotmail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地址：北京市北四环西路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号理想国际大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邮编：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录播栏目视频宣传服务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由于直播有很强的时效性，并且只播出一路直播信号，为使重点合作伙伴的精彩活动长期保留并热点推荐，在直播之外，我们还提供付费的录播服务，由新浪游戏视频战略合作伙伴；本届展会首要网络视频媒体“欢腾传媒”拍摄并剪辑制作，在新浪游戏点播播出及下载，视频长期保留。详情请见新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欢腾视频录播服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.p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10:01:11Z</dcterms:created>
  <dc:creator>USER1</dc:creator>
  <dc:description/>
  <dc:language>en-US</dc:language>
  <cp:lastModifiedBy>wenyu</cp:lastModifiedBy>
  <cp:lastPrinted>2001-03-06T12:34:47Z</cp:lastPrinted>
  <dcterms:modified xsi:type="dcterms:W3CDTF">2006-06-14T06:49:12Z</dcterms:modified>
  <cp:revision>2247</cp:revision>
  <dc:subject/>
  <dc:title>没有幻灯片标题</dc:title>
</cp:coreProperties>
</file>