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309-9FF7-49E6-9D7C-11C31CAA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E7E-86BD-4ADE-800A-F291331A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F1F-4226-46D1-BA56-D436D0C0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705-A7D9-4E8A-930B-303A4B4F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5B8-563C-47EE-8896-2C52C459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1B8-56EE-4604-9376-7F93583F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F36-28AF-4EF5-8EA8-30448E19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9B5-515C-4E9E-8B7D-90C7FDB7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74E-BD12-4247-86D9-FFCA9FAD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BE6-CB0B-4218-A5E5-012A198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DC0-10CA-43F1-AC66-79316146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520-109B-4C08-82B7-73882F65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B8DB-B9D1-49F7-A45F-E4CB182D9F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yangguang@hotmoto.com" TargetMode="External"/><Relationship Id="rId3" Type="http://schemas.openxmlformats.org/officeDocument/2006/relationships/hyperlink" Target="mailto:yshineg@hotmail.co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INAJO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展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视频录播栏目及商务合作方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新浪游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欢腾传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提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七大栏目板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042920" y="3933720"/>
            <a:ext cx="1905120" cy="152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804000" y="191628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627280" y="191628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492360" y="3933720"/>
            <a:ext cx="1917720" cy="1533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6012000" y="3933720"/>
            <a:ext cx="18730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．《风云对话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栏目由新浪游戏与欢腾传媒联合现场采访各公司主要领导之一，由公司领导在此盛事时刻向全国玩家致词，传达公司产品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．《最眩展台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次展会将是各游戏厂商产品及公司形象的大比拼，在布展及现场活动方面各参展商均投入了巨资，必须有大面积的媒体宣传才能展有所值，所以制作系列厂商展台专题，全景拍摄展台内外场景，展示公司布展特色、现场热点活动、产品宣传等等，从而扩大本次展会布展效果的影响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．《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斗秀场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游戏之外，展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是最吸引眼球的，将现场拍摄公司展台劲舞、美女玩家等节目，满足玩家观赏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91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．《我最喜欢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展会中，各厂商都会开展丰富多彩的现场活动，哪些活动最有吸引力，最受玩家青睐，将挑选最精彩的节目现场拍摄、报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．《明星现场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展会期间，将有部分厂商邀请明星出场助阵，全程拍摄报道明星出场热烈场景，营造高潮气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．《新作前瞻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某厂商的上市新作，进行综合报道，包括画面演示，玩家体验等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．《最新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CG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赏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展会期间，会有一部分新作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场放出，将对这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报道、展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栏目专题制作及发布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欢腾传媒将现场拍摄制作，各栏目内容在拍摄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内在新浪游戏专题站完成发布，所有内容均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INAJOY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期间内制作完成，并发布。视频内容将长久保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以上，提供用户点播和下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展会宣传片制作展播服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次展会上，各厂商必然会通过大屏幕播放宣传视频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画虽然观赏力很强，但必然数量和时长有限，不能满足长时间的播放，为此，欢腾传媒将与新浪游戏联合整理制作系列视频短片，并提供高清晰版，方便通过现场大屏幕宣传播放，吸引玩家的观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除了现场播放外，在新浪游戏专题站将提前或同步播出这些宣传视频，增加传播效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浪游戏配套宣传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7645320" cy="13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971640" y="1557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新浪游戏第四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hinajoy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游戏展览会专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新浪游戏宣传资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1413000"/>
          <a:ext cx="313524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413000"/>
                    <a:ext cx="3135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635280" y="155736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页大图小图推荐（每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234936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页要闻文字链推荐（每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50028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页视频图文推荐（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4797360"/>
            <a:ext cx="45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页通栏广告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hinaJo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视频宣传方案商务合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本次展会视频报道，新浪游戏与欢腾传媒投入巨大，并且现场拍摄制作发布人力有限，不可能对所有厂商均实施大量报道，除第一项直播服务免费外，其他两项服务均收取一定制作费用，简要标准制作价格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专题栏目报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600200"/>
          <a:ext cx="8229600" cy="425124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栏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个单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标准时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风云对话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以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最眩展台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以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斗秀场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以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我最喜欢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以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明星现场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以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新作前瞻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钟以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最新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赏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根据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确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栏目专题打包服务价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341360"/>
          <a:ext cx="8229600" cy="5092920"/>
        </p:xfrm>
        <a:graphic>
          <a:graphicData uri="http://schemas.openxmlformats.org/drawingml/2006/table">
            <a:tbl>
              <a:tblPr/>
              <a:tblGrid>
                <a:gridCol w="2243160"/>
                <a:gridCol w="3024000"/>
                <a:gridCol w="2962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制作费用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制作内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赠送播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套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按标准价格合计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风云对话》一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最眩展台》一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斗秀场》或 《我最喜欢》或 《新作前瞻》、《明星现场》其中任意一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最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赏》一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题站展会专区一个，所有报道内容全部提供点播和下载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播频道对所有视频内容展播一次以上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套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按标准价格合计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以上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风云对话》一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最眩展台》一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斗秀场》两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我最喜欢》一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明星现场》 或《新作前瞻》一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最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赏》多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题站展会专区一个，所有报道内容全部提供点播和下载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播频道对所有视频内容展播三次以上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价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根据需求另拟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根据需求另拟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第四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INAJO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展会期间，本届展会首要网络媒体“新浪游戏”与本届展会首要网络视频媒体“欢腾传媒”将紧密协作，建立展会专题站及直播频道，以最直观的视频方式进行长期、全方位的播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配合贵公司充分利用好本次展会，通过视频传播手段，宣传游戏产品，吸引玩家参与，扩大公司和产品知名度，新浪游戏与欢腾传媒联合推出七大展会报道栏目，汇总报道展会盛况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浪游戏配套首页宣传资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341360"/>
          <a:ext cx="8229600" cy="3267000"/>
        </p:xfrm>
        <a:graphic>
          <a:graphicData uri="http://schemas.openxmlformats.org/drawingml/2006/table">
            <a:tbl>
              <a:tblPr/>
              <a:tblGrid>
                <a:gridCol w="3035160"/>
                <a:gridCol w="519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制作费用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浪游戏首页宣传资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套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按标准价格合计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图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 或 小图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要闻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条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视频图文：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套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按标准价格合计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以上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图：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图：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要闻：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条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视频图文：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展会宣传片制作及展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作系列适合展会播放的宣传片，游戏介绍等视频，并提供高清晰版和网络版，分别用于现场大屏幕播放和网络播出，价格根据内容具体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1155600"/>
            <a:ext cx="727416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您有需求，请与我们联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浪游戏专项负责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闻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新浪游戏频道 副主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enyu2@staff.sina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EL:82628888-53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欢腾传媒专项负责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杨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手机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38113435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yangguang@hotmot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2275296-6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S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yshineg@hot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Q: 234263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上届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第三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HINAJO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展会上，作为首要网络视频媒体，欢腾传媒第一次参加展会报道，即派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专职工作人员到会，充分发挥网络视频互动点播，低成本海量制作的优势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场拍摄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分钟的录像带，现场制作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部视频节目，总时长达到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分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这一数据几乎超过很多大型展会上中央电视台的制作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上届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120" y="1268280"/>
            <a:ext cx="52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届展会欢腾视频专题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hotmoto.com/chinajoy/defaul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9680" y="192420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284720" y="1924200"/>
            <a:ext cx="4535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上届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1120" y="1268280"/>
            <a:ext cx="52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届展会欢腾视频专题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hotmoto.com/chinajoy/defaul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8000" y="192420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213080" y="1924200"/>
            <a:ext cx="4680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视频宣传内容服务项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新浪游戏配套宣传资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视频宣传方案商务合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视频宣传内容服务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展会网络视频现场直播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展会现场视频栏目专题宣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展会宣传片制作及展播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展会网络视频现场直播服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次展会上，新浪游戏将开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2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直播频道，欢腾传媒将协助进行直播进行，具体直播计划请见新浪游戏直播方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展会现场视频栏目专题宣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能使本次展会报道内容充实详尽，并能使重点合作伙伴的游戏及展台全方位视频展示，宣传给全国玩家，新浪游戏与欢腾传媒计划开通以下七大栏目板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《风云对话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《最眩展台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斗秀场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《我最喜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《明星现场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《新作前瞻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《最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03:27:15Z</dcterms:created>
  <dc:creator>Customer</dc:creator>
  <dc:description/>
  <dc:language>en-US</dc:language>
  <cp:lastModifiedBy>MC SYSTEM</cp:lastModifiedBy>
  <dcterms:modified xsi:type="dcterms:W3CDTF">2006-06-28T03:23:19Z</dcterms:modified>
  <cp:revision>132</cp:revision>
  <dc:subject/>
  <dc:title>《我踢世界杯》</dc:title>
</cp:coreProperties>
</file>